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gif" ContentType="image/gi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FAAB-0071-4424-A3B7-EAD1F10D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DE3-CD26-4561-BC08-5FC7DC4E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37B-0238-4FF4-B14B-6D5AAD7A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030-B84A-46DC-8948-7A81A527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3465-20FA-404B-B03C-1A8EF5B4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FB9C-CE35-4BF1-898D-6632F85E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8352-B75B-4B77-975B-B60262C5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F2C6-9044-49F7-9C2B-48C69896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9993-542D-421F-88AE-40EE6438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FDD4-76F7-46A7-BBEC-7C74007C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D63C-6BD1-48E5-AA99-F3E6C1AF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8E4-E787-4F6B-8386-E625311C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3EA3-FAB7-4E4A-BA02-3B70F0DE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ED7C-F33B-4DAE-80DD-16FCB3EF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D6CD-7FC0-4B37-BC56-45DE1A74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0047-3B66-4679-9DB8-CE5CFBF7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F321-BDB8-4FEA-A770-58072BD9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90B-C122-41EE-B497-0E947ACC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289D-0E2B-43EB-894C-71CEE1EA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436B-18C3-490F-9BB0-4DA3895E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D85-E7D9-44AD-BFC0-103072D0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095-E10F-4BCF-A16A-D7DE502B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A59-734E-42AB-AC20-1BD334FF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7227-3A75-4EC0-9CCF-DABC0B45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3811-EFF2-4006-AC6A-2252147233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BE7D-8762-4C65-8ABC-2F8D886495B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andex.ru/" TargetMode="External"/><Relationship Id="rId2" Type="http://schemas.openxmlformats.org/officeDocument/2006/relationships/hyperlink" Target="http://www.rambler.ru/" TargetMode="External"/><Relationship Id="rId3" Type="http://schemas.openxmlformats.org/officeDocument/2006/relationships/hyperlink" Target="http://www.rol.ru/" TargetMode="External"/><Relationship Id="rId4" Type="http://schemas.openxmlformats.org/officeDocument/2006/relationships/hyperlink" Target="http://www.studens.ru/" TargetMode="External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676520"/>
            <a:ext cx="3733920" cy="2286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Проблемы окружающей среды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343400" y="106632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ОУ СОШ №19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втор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сквина Мил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урвинская Алён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1 «А» кла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еподавател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Горяйнова Т.М. учитель хими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категор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63244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овосибирск 2006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2403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6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1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6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1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6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1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6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Загрязнение атмосферы в РФ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27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838080"/>
          <a:ext cx="8077320" cy="5899320"/>
        </p:xfrm>
        <a:graphic>
          <a:graphicData uri="http://schemas.openxmlformats.org/drawingml/2006/table">
            <a:tbl>
              <a:tblPr/>
              <a:tblGrid>
                <a:gridCol w="4152960"/>
                <a:gridCol w="3924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росы вредных веществ в атмосферу (тыс.тон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ая Федерация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04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ий кра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2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рдловская обла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1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ская обла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ябинская обла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еровская обла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8,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годская обла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8,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кутская обла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7,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Загрязнение вод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804600"/>
            <a:ext cx="834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сточники поступления нефтяных углеводородов в мирово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676520"/>
          <a:ext cx="3886200" cy="3593880"/>
        </p:xfrm>
        <a:graphic>
          <a:graphicData uri="http://schemas.openxmlformats.org/drawingml/2006/table">
            <a:tbl>
              <a:tblPr/>
              <a:tblGrid>
                <a:gridCol w="3059280"/>
                <a:gridCol w="8269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брос с су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Выпадение из атмосф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ступление из земной к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Сброс с берегов очистных сооруж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атастрофы нефтеналивных су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Поступление с речным сто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Загрязнение при добыче нефти на шельф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5" name=""/>
          <p:cNvGrpSpPr/>
          <p:nvPr/>
        </p:nvGrpSpPr>
        <p:grpSpPr>
          <a:xfrm>
            <a:off x="4495680" y="2209680"/>
            <a:ext cx="4305600" cy="4289400"/>
            <a:chOff x="4495680" y="2209680"/>
            <a:chExt cx="4305600" cy="428940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4495680" y="2209680"/>
              <a:ext cx="3890520" cy="42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87520" y="3199320"/>
              <a:ext cx="837000" cy="3297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3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89560" y="4519440"/>
              <a:ext cx="837000" cy="3297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3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54240" y="4519440"/>
              <a:ext cx="837000" cy="32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15200" y="3859200"/>
              <a:ext cx="837000" cy="3297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54240" y="3199320"/>
              <a:ext cx="837000" cy="3297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1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52200" y="2539440"/>
              <a:ext cx="837000" cy="3297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1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64280" y="2209680"/>
              <a:ext cx="837000" cy="32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09080" y="2429640"/>
              <a:ext cx="155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0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Загрязнение вод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172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131760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громное количество воды используется в промышленности. На выплавку 1 т стали необходимо 200 м3. На производство 1 т бумаги требуется 100 м3, на изготовление 1 т синтетического волокна - от 2500 до 5000 м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 данным ООН, ежегодно в мировой океан попадает 30 млрд. тонн нефтепродуктов, 50 000 тонн пестицидов, 5000 тонн рту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00"/>
                            </p:stCondLst>
                            <p:childTnLst>
                              <p:par>
                                <p:cTn id="2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Сброс загрязненных вод по РФ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80880" y="1219320"/>
          <a:ext cx="8305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305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65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Загрязнение поч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2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Загрязнение поч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249200"/>
            <a:ext cx="7772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лько в течение последних 4-х десятилетий на Земле произвели столько же продукции, сколько за весь период существования цивилизации до 1950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 данным Всемирной комиссии ООН по окружающей среде и развитию, в настоящее время ежегодно превращается в пустыню 6 млн.  гектаров  обрабатываемых  земель, 20 млрд. теряет свою продуктивность. Кроме того, расширяются территории пустынь: Сахара ежегодно продвигается к югу на 30 миль(48 к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есные пространства занимали в 1950г. 15% суши, сейчас – 7%; Ежегодно уничтожается более 11 млн. гектаров леса.   Каждый год сжигается 20 кв. км влажных тропических лесов (половина Франции). Планета может лишиться своего главного источника кислорода уже в следующем десятилет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2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70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Вывод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заключении хочется привест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древнеиндийский афоризм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ирода – это  не то, что мы получили в наследство от предков, а то, что мы взяли взаймы у потомк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еловечество должно быть разумным должником и платить проценты, ибо второго кредита уже не будет..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646640"/>
            <a:ext cx="762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устынная земля без единой травинки, безлюдные города, вода, кишащая отходами, температура воздуха 451градус по Фаренгейту...Нет, это не страшный сон, а всего лишь картина из фантастического будущего. Тем не менее, она в любой момент может стать реаль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5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75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75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75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Список информационных материалов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yandex.r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rambler.r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www.rol.r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www.studens.r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Экология» Л.Н. Ердаков, Н.Л. Чубыкина. Новосибирск 1996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лобальные проблемы человечеств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.А. Родионова. М., 1995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Глобальные проблемы окружающей среды.» И.А. Родионова. М, 1995г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6095880" y="1143000"/>
            <a:ext cx="19051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Цель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явить проблемы загрязнения окружающей сред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ипотеза: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человек пожинает плоды своей деятельности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3733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едисловие.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зко возросла человеческая деятельность, которая, в свою очередь, обусловлена быстрым ростом народонаселением планеты: так, по сравнению с 1960 годом население увеличилось в два раза, а по сравнению с 1850 г.– в шесть раз. В результате быстро расходуются ресурсы Земли и производится слишком много отходов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4223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5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5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ажно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 чему же привело бурное развитие экономики и человеческая деятельность? Загрязнение всего земного пространства,– океана, воздуха и воды - «парниковый эффект», вырубка лесов, опустынивание, исчезновение многих видов растений и животных -  вот лишь некоторые основные формы антропогенного воздействия на окружающую среду. Вот конкретные факт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 годы после второй мировой войны было использовано столько минерального сырья, сколько за всю предыдущую историю человечества, что создало проблему истощения природных ресурс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553080" y="5410080"/>
            <a:ext cx="19814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5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750"/>
                            </p:stCondLst>
                            <p:childTnLst>
                              <p:par>
                                <p:cTn id="97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Источники загрязн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5800" y="934920"/>
            <a:ext cx="800100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Стандарты качеств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219320"/>
            <a:ext cx="2286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к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1219320"/>
            <a:ext cx="4152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о- хозяй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904760" y="685800"/>
            <a:ext cx="11430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685800"/>
            <a:ext cx="11430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2362320"/>
            <a:ext cx="9144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Д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2362320"/>
            <a:ext cx="8766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590920"/>
            <a:ext cx="800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Д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2743200"/>
            <a:ext cx="799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Д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2895480"/>
            <a:ext cx="8766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Д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2743200"/>
            <a:ext cx="8002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Г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14040" y="1828800"/>
            <a:ext cx="343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1828800"/>
            <a:ext cx="57132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495680" y="19810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4100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2057400"/>
            <a:ext cx="571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1981080"/>
            <a:ext cx="1486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83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2849760"/>
            <a:ext cx="869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00" y="26395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4099320"/>
            <a:ext cx="5715000" cy="23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ДК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ьно допустимая концент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ДУ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ьно допустимый уров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Д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едельно допустим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Д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едельно допустимый выб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Д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едельно допустимое по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Г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едел годового по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8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3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8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тандарты качеств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324080"/>
            <a:ext cx="19810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ДК некоторых веществ загрязн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905120" y="1295280"/>
          <a:ext cx="6629040" cy="5105160"/>
        </p:xfrm>
        <a:graphic>
          <a:graphicData uri="http://schemas.openxmlformats.org/drawingml/2006/table">
            <a:tbl>
              <a:tblPr/>
              <a:tblGrid>
                <a:gridCol w="1428480"/>
                <a:gridCol w="1202040"/>
                <a:gridCol w="1400040"/>
                <a:gridCol w="1287360"/>
                <a:gridCol w="1311120"/>
              </a:tblGrid>
              <a:tr h="170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 воздухе рабочей зоны (мг/м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с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суточная в воздухе населенных мест (мг/м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аксимально разовая в воздухе (мг/м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н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грязнителей в водоемах (мг/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по азот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нзол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азин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ол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льдегид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ец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туть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0" y="3427920"/>
            <a:ext cx="190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ДК – предельно допустимая концент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5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85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35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Токсичность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57240" y="252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09480" y="1295280"/>
            <a:ext cx="7696440" cy="3276360"/>
            <a:chOff x="609480" y="1295280"/>
            <a:chExt cx="7696440" cy="3276360"/>
          </a:xfrm>
        </p:grpSpPr>
        <p:sp>
          <p:nvSpPr>
            <p:cNvPr id="194" name=""/>
            <p:cNvSpPr/>
            <p:nvPr/>
          </p:nvSpPr>
          <p:spPr>
            <a:xfrm>
              <a:off x="609480" y="2933640"/>
              <a:ext cx="1995480" cy="16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из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u, Fe, Mn, Zn,  Ni, Ge, Sr, Rb, 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89720" y="2933640"/>
              <a:ext cx="1282680" cy="11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редня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r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g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57520" y="2933640"/>
              <a:ext cx="1567800" cy="11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ысо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b, As, Ba, 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10440" y="2933640"/>
              <a:ext cx="1995480" cy="11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чень высо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d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b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g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606680" y="1295280"/>
              <a:ext cx="1425240" cy="16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32280" y="1295280"/>
              <a:ext cx="427320" cy="16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32280" y="1295280"/>
              <a:ext cx="2137680" cy="16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32280" y="1295280"/>
              <a:ext cx="3277800" cy="16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371600" y="1191960"/>
            <a:ext cx="632448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19920" y="4800600"/>
            <a:ext cx="22701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350"/>
                            </p:stCondLst>
                            <p:childTnLst>
                              <p:par>
                                <p:cTn id="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35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850"/>
                            </p:stCondLst>
                            <p:childTnLst>
                              <p:par>
                                <p:cTn id="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Загрязнение воздух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68580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07680"/>
            <a:ext cx="8458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результате сжигания различного топлива в атмосферу ежегодно выбрасывается около 20 млрд. тонн углекислого газа. Содержание углекислого газа в атмосфере постепенно возрастает и за последние 100 лет увеличилось более чем на 10%. Углекислый газ препятствует тепловому излучению в космическое пространство, создавая там так называемый «парниковый эффект», что приводит к потеплению климата. По прогнозам климатологов, оно составит к середине следующего века  2-5 граду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бросы газа в атмосферу уже разрушили 9% озонового слоя, главного защитника земли от ультрафиолетовых лучей. «Озоновая дыра» занимает площадь, равную территории С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начительно загрязняют атмосферу автомобильный транспорт, электростанции, предприятия черной и цветной металлургии, нефтегазоперерабатывающей, химической и лесной промышленности.        Большое количество вредных веществ в атмосферу поступает с выхлопными газами автомобилей, причем их доля в загрязнении воздуха постоянно растет; в России - более 30%, а в США - более 60% от общего выброса вредных веществ в атмосф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5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85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07:31:27Z</dcterms:created>
  <dc:creator>User</dc:creator>
  <dc:description/>
  <dc:language>en-US</dc:language>
  <cp:lastModifiedBy>Ваня</cp:lastModifiedBy>
  <dcterms:modified xsi:type="dcterms:W3CDTF">2008-12-20T11:10:59Z</dcterms:modified>
  <cp:revision>35</cp:revision>
  <dc:subject/>
  <dc:title>МОУ СОШ 195</dc:title>
</cp:coreProperties>
</file>